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2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8F8-0C31-4EEE-ADDC-2ACC1E0E9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into dbase before end of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large volume - more national / sub-regional pub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 / 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arc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BDB - Species module - TBW; all spp (least concer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tes - I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A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on bar down left hand side provides access to a number of data management scree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details, habitats, landuse, threats, text summary, site account, species list, species population records, species criteria and sit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is explored in detail on the following slide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name, location (country and admin level 1 an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number of IBA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bi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compi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habitats occurring at th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 of %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list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landuse at th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 of %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list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threats at th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list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text fields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ithological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/conservation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 and lan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una/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reviewers and compi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text fields support various font controls and spell che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 details for species occurring at th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n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ly talking about identification /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ta - geog coverage / state of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base -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eria triggered by a particula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of assessment against th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rotecte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ed area name (from a pick list - can be added 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to I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only worldwide - standardised, agre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ional and sub-regional in Europe and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i and 4iii = Ramsar ‘waterbirds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1 and A4 most relevant to this mt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gratory passer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-African mig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3" name=""/>
          <p:cNvGraphicFramePr/>
          <p:nvPr/>
        </p:nvGraphicFramePr>
        <p:xfrm>
          <a:off x="754200" y="6632640"/>
          <a:ext cx="4852800" cy="253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32640"/>
                    <a:ext cx="485280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906480" y="5029200"/>
            <a:ext cx="49845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national publications in Europe in appropriate langu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vering 10 countries in Af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, Bs, and 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ographic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ts don’t give idea of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y fewer sties cf Europe but same propo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97 sites (40%) of which 161 qualify for this category only.  Not all spp mig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4i - 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4ii - 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4iii -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4iv -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tes identified for 183 congregatory spp -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eater Flamingo - 8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 A1 sp - Vu.  Falco naum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esn’t include Asian breeding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D22-61CD-4EDF-8A7D-F2613C00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31E-DFA7-449A-8C8F-B8519787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D67-4A55-4C80-999B-EE0AEBBB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2FA-F934-4B21-8FB3-DF75BFA6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6DA-2DFF-470F-B8E9-870FFCA4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58C-58A1-4F1D-9D51-52D9C404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DD8-3165-4A8E-98E3-F266C398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B29-FB83-404E-95B9-D2BD6B4E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19A-E0DF-4439-BA25-5934ABB4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9EB-60E2-4AA7-A47A-9834C2A4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1B2-9BED-4012-BC81-67BAD24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0A7-F4C8-4D8D-B1CC-88BE695C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0AE0-F298-48AF-971B-638C224D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n introduction to the Important Bird Areas programm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Fishp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Life Intern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sia IBA programm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directory to be published late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directories for Philippines, Taiwan and Indonesia pub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tion of directories for Nepal, Sri Lanka and India well advanced, others pla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mericas IBA programm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s to be identified for all countries by end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directory for Mexico published, Panama immi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ory for Canada almost complete; programmes running in 42 US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es for Brazil, Argentina, Venezuela etc. well unde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ld Bird Database</a:t>
            </a:r>
            <a:br>
              <a:rPr sz="3500"/>
            </a:b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6" name="wbdb%20IBA%20capture002" descr=""/>
          <p:cNvPicPr/>
          <p:nvPr/>
        </p:nvPicPr>
        <p:blipFill>
          <a:blip r:embed="rId1"/>
          <a:stretch/>
        </p:blipFill>
        <p:spPr>
          <a:xfrm>
            <a:off x="677880" y="1143000"/>
            <a:ext cx="3589200" cy="2746440"/>
          </a:xfrm>
          <a:prstGeom prst="rect">
            <a:avLst/>
          </a:prstGeom>
          <a:ln w="0">
            <a:noFill/>
          </a:ln>
        </p:spPr>
      </p:pic>
      <p:pic>
        <p:nvPicPr>
          <p:cNvPr id="77" name="wbdb%20IBA%20capture004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3522600" cy="2746440"/>
          </a:xfrm>
          <a:prstGeom prst="rect">
            <a:avLst/>
          </a:prstGeom>
          <a:ln w="0">
            <a:noFill/>
          </a:ln>
        </p:spPr>
      </p:pic>
      <p:pic>
        <p:nvPicPr>
          <p:cNvPr id="78" name="wbdb1" descr=""/>
          <p:cNvPicPr/>
          <p:nvPr/>
        </p:nvPicPr>
        <p:blipFill>
          <a:blip r:embed="rId3"/>
          <a:stretch/>
        </p:blipFill>
        <p:spPr>
          <a:xfrm>
            <a:off x="5214960" y="3276720"/>
            <a:ext cx="3522600" cy="24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89560" y="0"/>
            <a:ext cx="464796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95680" y="0"/>
            <a:ext cx="464832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te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489560" y="0"/>
            <a:ext cx="464796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489560" y="0"/>
            <a:ext cx="464796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nd-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89560" y="0"/>
            <a:ext cx="464796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489560" y="0"/>
            <a:ext cx="464796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mmary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489560" y="0"/>
            <a:ext cx="464796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portant Bird Areas (IBA) programme seeks to identify, document and promote the conservation and sustainable management of a network of sites of global significance for bi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89560" y="0"/>
            <a:ext cx="464796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489560" y="0"/>
            <a:ext cx="464796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nk to Protect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BA Selection Categori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 Species of global conservation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Assemblage of restricted-range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 Assemblage of biome-restricted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Congre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i    &gt; threshold numbers of waterbi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ii   &gt; threshold numbers of sea- and landbi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iii  &gt; 20,000 / 10,000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iv  Migratory bottleneck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gional synthes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5" name="orange%20iba%20book%20cover" descr=""/>
          <p:cNvPicPr/>
          <p:nvPr/>
        </p:nvPicPr>
        <p:blipFill>
          <a:blip r:embed="rId1"/>
          <a:stretch/>
        </p:blipFill>
        <p:spPr>
          <a:xfrm>
            <a:off x="0" y="838080"/>
            <a:ext cx="3029040" cy="4724640"/>
          </a:xfrm>
          <a:prstGeom prst="rect">
            <a:avLst/>
          </a:prstGeom>
          <a:ln w="0">
            <a:noFill/>
          </a:ln>
        </p:spPr>
      </p:pic>
      <p:pic>
        <p:nvPicPr>
          <p:cNvPr id="56" name="important%20bird%20areas%20in%20the%20middle%20east" descr=""/>
          <p:cNvPicPr/>
          <p:nvPr/>
        </p:nvPicPr>
        <p:blipFill>
          <a:blip r:embed="rId2"/>
          <a:stretch/>
        </p:blipFill>
        <p:spPr>
          <a:xfrm>
            <a:off x="3657600" y="914400"/>
            <a:ext cx="333864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IBA%20Africa%20cover%20small" descr=""/>
          <p:cNvPicPr/>
          <p:nvPr/>
        </p:nvPicPr>
        <p:blipFill>
          <a:blip r:embed="rId3"/>
          <a:stretch/>
        </p:blipFill>
        <p:spPr>
          <a:xfrm>
            <a:off x="6064200" y="2133720"/>
            <a:ext cx="30798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1981080" y="2209680"/>
            <a:ext cx="3657240" cy="4647960"/>
            <a:chOff x="1981080" y="2209680"/>
            <a:chExt cx="3657240" cy="4647960"/>
          </a:xfrm>
        </p:grpSpPr>
        <p:pic>
          <p:nvPicPr>
            <p:cNvPr id="59" name="iba-cover" descr=""/>
            <p:cNvPicPr/>
            <p:nvPr/>
          </p:nvPicPr>
          <p:blipFill>
            <a:blip r:embed="rId4"/>
            <a:stretch/>
          </p:blipFill>
          <p:spPr>
            <a:xfrm>
              <a:off x="1981080" y="2209680"/>
              <a:ext cx="2910960" cy="41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iba-cover" descr=""/>
            <p:cNvPicPr/>
            <p:nvPr/>
          </p:nvPicPr>
          <p:blipFill>
            <a:blip r:embed="rId5"/>
            <a:stretch/>
          </p:blipFill>
          <p:spPr>
            <a:xfrm>
              <a:off x="2727360" y="2734200"/>
              <a:ext cx="2910960" cy="4123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3,619 IBAs cover 7% of Europe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2" name="FIG1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ideast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4890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391 IBAs cover 5% of the Middle Eas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1,228 IBAs cover 7% of Afric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6" name="fig01" descr=""/>
          <p:cNvPicPr/>
          <p:nvPr/>
        </p:nvPicPr>
        <p:blipFill>
          <a:blip r:embed="rId1"/>
          <a:srcRect l="3531" t="0" r="1174" b="830"/>
          <a:stretch/>
        </p:blipFill>
        <p:spPr>
          <a:xfrm>
            <a:off x="1523880" y="1219320"/>
            <a:ext cx="609624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figure%201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Category A4 IBAs in Afric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network of IBAs for Lesser Kestrel in Europe, the Middle East and Africa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0" name="fig08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9:10:18Z</dcterms:created>
  <dc:creator>Lincoln Fishpool</dc:creator>
  <dc:description/>
  <dc:language>en-US</dc:language>
  <cp:lastModifiedBy>Lincoln Fishpool</cp:lastModifiedBy>
  <cp:lastPrinted>2002-05-03T13:05:16Z</cp:lastPrinted>
  <dcterms:modified xsi:type="dcterms:W3CDTF">2002-05-03T13:42:39Z</dcterms:modified>
  <cp:revision>4</cp:revision>
  <dc:subject/>
  <dc:title>The Important Bird Areas programme: a global perspective</dc:title>
</cp:coreProperties>
</file>