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56B-FF5B-4A21-AFA6-7BDABAA0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26F-2486-43EB-9D6B-9C8C7B33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312-59FF-4E15-9129-9D9BF9BC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07E-452C-43AB-8657-E0D32C5A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8E9-C0CC-4547-8460-09C1E0E4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EFD-61D8-4A76-BBDC-8CD20C60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61E-BA62-4AEA-808E-6303A664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FE7-1689-4C3C-B907-45F20F7E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CDC-B7F3-459C-8023-E0ED7A88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13E-0148-4C3D-A148-6722856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570-4434-4DCE-A686-36816B9B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CD9-25BD-4BFF-B614-6EE3E90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C8A8-FD6A-47A1-A973-46CC239AE19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7A9D-47EA-46DC-AF9D-CEEF041E7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efinition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ion: “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 of moving from one spatial unit to anoth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(Baker 1978, p. 23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 migration’ : “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 movement with return to starting point – the traveller needs a return ticket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ngle 1996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litical definition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population or any geographically separate part of the population of any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es or lower taxon of wild animals, a significant proportion of whose members cyclically and predictably cross one or more national jurisdictional boundaries“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S 1979, Article 1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OMS: true migration &gt; 100 km (excl. local migra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6019920"/>
            <a:ext cx="2667240" cy="662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4290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4956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fn" descr=""/>
          <p:cNvPicPr/>
          <p:nvPr/>
        </p:nvPicPr>
        <p:blipFill>
          <a:blip r:embed="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7" name="bfn" descr=""/>
          <p:cNvPicPr/>
          <p:nvPr/>
        </p:nvPicPr>
        <p:blipFill>
          <a:blip r:embed="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shim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1120" y="61722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04920"/>
            <a:ext cx="8991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lobal Register of Migratory Species (GRO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http://www.groms.d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Geo-Database of migratory species at a global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6039000"/>
            <a:ext cx="63244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9400" y="422280"/>
            <a:ext cx="77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mber of migratory species in 890 ecoregions of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cies: 846 GROMS distribution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coregions: www-eco.shp file provided by ArcView/ES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1552680"/>
            <a:ext cx="78296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GermanSpecies" descr=""/>
          <p:cNvPicPr/>
          <p:nvPr/>
        </p:nvPicPr>
        <p:blipFill>
          <a:blip r:embed="rId1"/>
          <a:stretch/>
        </p:blipFill>
        <p:spPr>
          <a:xfrm>
            <a:off x="609480" y="662040"/>
            <a:ext cx="9144000" cy="6195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6094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igratory Footprint of Migratory Species occuring in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ermanSpeciesStat1" descr=""/>
          <p:cNvPicPr/>
          <p:nvPr/>
        </p:nvPicPr>
        <p:blipFill>
          <a:blip r:embed="rId1"/>
          <a:stretch/>
        </p:blipFill>
        <p:spPr>
          <a:xfrm>
            <a:off x="990720" y="0"/>
            <a:ext cx="10744200" cy="728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igratory Footprint of German Migrants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reeding els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GermanSpeciesStat2" descr=""/>
          <p:cNvPicPr/>
          <p:nvPr/>
        </p:nvPicPr>
        <p:blipFill>
          <a:blip r:embed="rId1"/>
          <a:stretch/>
        </p:blipFill>
        <p:spPr>
          <a:xfrm>
            <a:off x="457200" y="365040"/>
            <a:ext cx="9582120" cy="6492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63680" y="533520"/>
            <a:ext cx="699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igratory Footprint of German Migrants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ntering els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90920" y="1980720"/>
            <a:ext cx="6248160" cy="441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Geo-Database 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2 Boo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w Perspectives for Monitoring Migratory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lobal Register of Migratory Spe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Workshop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 Workshops, incl. Capacity building (COP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WWW public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ttp://www.groms.de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4290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4956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7200"/>
            <a:ext cx="91440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457200"/>
            <a:ext cx="58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cc"/>
                </a:solidFill>
                <a:latin typeface="Arial Unicode MS"/>
              </a:rPr>
              <a:t>Produ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Groms" descr=""/>
          <p:cNvPicPr/>
          <p:nvPr/>
        </p:nvPicPr>
        <p:blipFill>
          <a:blip r:embed="rId1"/>
          <a:stretch/>
        </p:blipFill>
        <p:spPr>
          <a:xfrm>
            <a:off x="0" y="152280"/>
            <a:ext cx="2438280" cy="970200"/>
          </a:xfrm>
          <a:prstGeom prst="rect">
            <a:avLst/>
          </a:prstGeom>
          <a:ln w="0">
            <a:noFill/>
          </a:ln>
        </p:spPr>
      </p:pic>
      <p:pic>
        <p:nvPicPr>
          <p:cNvPr id="99" name="worktitle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4302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BUCH2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14238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CDGROMS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1514520" cy="1524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280" y="6553080"/>
            <a:ext cx="152640" cy="1526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553080"/>
            <a:ext cx="152640" cy="1526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6553080"/>
            <a:ext cx="152640" cy="1526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553080"/>
            <a:ext cx="152640" cy="15264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6553080"/>
            <a:ext cx="152640" cy="15264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6553080"/>
            <a:ext cx="152640" cy="15264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eb products 6 (6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79440" y="2708280"/>
            <a:ext cx="542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ail discussion list (appr. 300 me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Migration@listserv.uni-bon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erspectives: data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te data (in particular: IBA- congregation areas BirdLife Interna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atellite tracks (for included animation to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066680"/>
            <a:ext cx="73915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information system dealing with migratory species has to co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ovements of migrants, requiring a GIS with time-co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higher taxonomic resolution at subspecies and/or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resent, none of the major databases covers these asp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MS is unique because it has developed a data model covering these asp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used for any biodiversity information system dealing with species distributions changing over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ain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dentification of migratory species: bats, terrestrial mammals, seals, sirenia, whales and dolphins, birds, turtles, fi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reat assessment (IUCN Red List 2000):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species not listed by CMS, but threaten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IS „calculation“ of range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IS analysis of global migrant d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dentification of migratory specie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143000"/>
            <a:ext cx="731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95 Mamm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31 b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2 terrestrial mam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9 seals and sir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3 whales and dolph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145 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 Reptiles ( 7 marine tur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895 Fishes (ray-finned fishes, lampreys, sharks and rays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imaeras, lobe-finned fi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XL Inverteb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12 in GROMS, monarch butterfly on CMS App. 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pecies fact sheets on th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46000" y="990720"/>
            <a:ext cx="557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tic html-pages focussing on migr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cluding maps (generated by geo-data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2481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eb produc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5790960" cy="4633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98560" y="1752480"/>
            <a:ext cx="717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p server based on Open GIS - Open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5120" y="6060960"/>
            <a:ext cx="61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cooperation with GEO-informatics, Uni Bo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b-based linking of Geodata from different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GIS calculation of range terri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2286000"/>
          <a:ext cx="114300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86000"/>
                    <a:ext cx="1143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62120" y="3657600"/>
          <a:ext cx="3047760" cy="297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657600"/>
                    <a:ext cx="304776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09480" y="2133720"/>
          <a:ext cx="2514600" cy="101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2133720"/>
                    <a:ext cx="25146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76720" y="2057400"/>
          <a:ext cx="1904760" cy="108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057400"/>
                    <a:ext cx="19047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791320" y="2057400"/>
          <a:ext cx="167616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2057400"/>
                    <a:ext cx="1676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562720" y="3200400"/>
          <a:ext cx="1922400" cy="339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200400"/>
                    <a:ext cx="192240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atabase import: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1,000 mapped species -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2,522 administrative units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340,000 combinations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(province – spec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29527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00600" y="30672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GIS analysis of global migrant diversity (540 mammals and bir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0574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dmin-specieslow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3152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6:28:39Z</dcterms:created>
  <dc:creator>pc83</dc:creator>
  <dc:description/>
  <dc:language>en-US</dc:language>
  <cp:lastModifiedBy>ZFMK</cp:lastModifiedBy>
  <cp:lastPrinted>2003-10-01T16:08:30Z</cp:lastPrinted>
  <dcterms:modified xsi:type="dcterms:W3CDTF">2003-10-01T16:08:35Z</dcterms:modified>
  <cp:revision>79</cp:revision>
  <dc:subject/>
  <dc:title>Global Register of Migratory Species</dc:title>
</cp:coreProperties>
</file>